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0EA-75F2-43E0-9E4A-541B0FD8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1CD-05C6-4DEC-843D-79FABAC6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6E0-8F0C-4CAE-8E48-C1EE06C7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666-317B-4E8B-ADAD-A4E2EA96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8C44-0046-486E-9A4D-B6386215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77CC-09C2-4BAA-9943-77E37314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D7A6-9161-4A26-8F1F-61ABAB1D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0091-CB0C-41CF-A70E-0BBDB1D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F683-7445-48EA-94D6-CA37027B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ABC5-7454-4FF2-AA5D-AB2B2DA0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D042-3917-415D-BF15-A613C77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BD7-CEE8-4624-AA1A-A087A9E8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C7B4-6E6E-4B80-8296-2467DF1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48DA-55CE-4EA4-9B87-00AADDEA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0912-EACE-4659-9E39-96DF429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59F-1A7A-42E1-8A32-7148BE55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DC96-D928-4ABA-9E8F-F6AE6BF9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089-129A-4323-998B-68FABC63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BFC-DE52-4394-A73D-B8696D5B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367-4324-41AB-B00D-9B8E6539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FE6-2979-4322-B084-96491194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C51-8A09-42C5-A05B-56F3E6B8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4FB-FA2F-4273-A2FB-19916557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058-EF4D-4262-B3D5-6C14F15A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F197-15C2-4DC6-B469-5F1D9687D5F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AAD2-7042-4A6F-9351-BFD34BB6596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Meiryo"/>
              </a:rPr>
              <a:t>Anwar Absar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9th ar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   :: cricket, ga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:: histor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724280"/>
            <a:ext cx="6858000" cy="1015920"/>
          </a:xfrm>
          <a:prstGeom prst="rect">
            <a:avLst/>
          </a:prstGeom>
          <a:solidFill>
            <a:srgbClr val="ffcc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akistan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51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2:13Z</dcterms:modified>
  <cp:revision>17</cp:revision>
  <dc:subject/>
  <dc:title>MR. HAROON </dc:title>
</cp:coreProperties>
</file>